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692-40CC-4EEA-A83D-C80ED679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628-A945-4015-B999-A1DED3A7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6A34-6B72-4F0D-BACB-3FD82AC1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408-A3A3-4F45-AB52-6F9CB248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2DC8-0083-43F1-A4C3-306ED1E7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2802-13E0-4E52-9C90-FF03B2C9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545C-9547-4B4C-A38E-587D25BB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8694-07B2-416A-9994-616D7598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07F3-55D2-40D8-8C15-B61379EC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650F-D8F7-49C4-85B7-46FFCEEC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CC5B-3A12-44E2-97EB-4E630AAA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639-FBD8-407B-A95F-E4B22A54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038C-5FBD-4C9F-BBC2-9EB0CA7C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2257-E552-4299-87C8-A0919AB0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EED7-11BB-4930-8C03-37FE3DFE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2E20-8961-4F53-BEE7-5240A831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1BAE-9753-410B-83B5-AEEA571B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332-BCA7-4622-B094-125D61B2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FB9-DDBA-4374-AA2C-5ADBEB4E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B58-EFC3-44AE-A7CD-180A0EEE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6D1-D360-495E-8132-CD27F0F3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031-B354-428D-987F-8D651C1B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5CB-2345-46E2-9D28-4FB11FD5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FD93-0DCA-4D81-9D69-873DBDF5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EFA9-C763-41E4-8FCF-42824B98C1C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5132-C8A2-4ED2-A4D1-E4776BC4881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66"/>
                </a:solidFill>
                <a:latin typeface="Cooper Black"/>
              </a:rPr>
              <a:t>     </a:t>
            </a:r>
            <a:r>
              <a:rPr b="0" lang="en-US" sz="4000" spc="-1" strike="noStrike">
                <a:solidFill>
                  <a:srgbClr val="cccc66"/>
                </a:solidFill>
                <a:latin typeface="Cooper Black"/>
              </a:rPr>
              <a:t>La  saveur de la vie dans    </a:t>
            </a:r>
            <a:r>
              <a:rPr b="0" lang="en-US" sz="4000" spc="-1" strike="noStrike">
                <a:solidFill>
                  <a:srgbClr val="cccc66"/>
                </a:solidFill>
                <a:latin typeface="Cooper Black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Cooper Black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Cooper Black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Cooper Black"/>
              </a:rPr>
              <a:t>    l’assiett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Aujourdui je parle avec mon amie française. On correspondons sur l’inter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Magali et moi. Elle a quinze ans, </a:t>
            </a: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le même âge que moi.  Elle est en </a:t>
            </a: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quatriè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classe. </a:t>
            </a: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En France, les classes du lycée commencent de cinq à un. Et  comm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d’habitude elle m’invite chez elle. Oh! France, Paris, Marseille, mais que pouvai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je faire? faute d’argent et de temps … J’ai refusé poliment l’invitati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Cet été, Magali est  invité avec sa famille chez nous. Son parents sont t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gentils. La mère, Roxanne, est roumaine elle est la meillleure amie de ma mè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Le père, Daniel, est français, né prés  de Marseille, mais il a vécu à Paris. Là, il 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enseigné la physique et la chemie au lycée Henric IV. Ils se sont mariée depui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dix-sept ans. Ils se sont connu à Paris sur un bateau-mouche, lors d’un festiva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de musique. Tous les deux aiment beaucoup de la musique française. Qui n’a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pas la musique de Joe Dassin , Edith Piaf, Nana Moskouri?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Ils vont arriver en Roumanie au mois d’août 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Parce que ils </a:t>
            </a: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vivent dans le Midi , ils aiment biensûr la cuisine provencale: l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bouillabaisse, les fruits de mér acompagnes de l’aïole, leRagoût de legumes. Au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sud s’appelle ratatouille.  Mais maman a pensé de preparer un plat traditionne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roumain, une spécialite pour eux: feuilles de chou farçies à la viende hachée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avec la polent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-171360"/>
            <a:ext cx="822960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Il ne faut pas oublier le potage de veau avec du borchs. On va servir aprè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un rôti d’agneau avec de la salade e du piurée. Comme gâteau, maman v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preparer des brioches aux raisins secs et noix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Mais comme vous l’avez devinè, mon amis, j’ai fait cette court et original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introduction parce que j</a:t>
            </a: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’aime beaucoup les brioches de maman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et je veux </a:t>
            </a: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vou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donne sa recette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Pour les brioches on avait besoin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de la farin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du lai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du beurr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du sucr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des oeuf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de la levur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des raisins secs et de noix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On melange un peu de farine, un peu de lait, et la levure. On laisse à se leve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Ensuite, on melange bien tous les ingredients.  On etend la pâte, on y met 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raisins secs et la noix, on roule et on met dans la forme. Après une heurre 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Met la  pâte dans le four pour quarante cinq minu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Bon apeti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38292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09:05:07Z</dcterms:created>
  <dc:creator>Dan</dc:creator>
  <dc:description/>
  <dc:language>en-US</dc:language>
  <cp:lastModifiedBy>Dan</cp:lastModifiedBy>
  <dcterms:modified xsi:type="dcterms:W3CDTF">2012-05-07T20:26:35Z</dcterms:modified>
  <cp:revision>9</cp:revision>
  <dc:subject/>
  <dc:title>     La  saveur de la vie dans           l’assiette</dc:title>
</cp:coreProperties>
</file>